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27D-4A09-42D1-8CF9-E6A6FD5E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517896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B362-6C29-4F37-B503-FBCD1BA8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3196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2BD-3B33-44A1-B055-07290310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8580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1512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8580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1512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9D4-9E3E-410B-88C5-89180436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C76E-D215-4BA4-8C6D-A2856D80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17DF-AFB5-431D-8F04-133C70CF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A003-300B-437B-9777-87857F8E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1C20-41D1-495D-A5E8-40FC5908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16EF-C6AA-4C96-B26D-C97A7D5F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600084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D354-AC77-451B-A688-93C3F322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F703-390F-4BC5-B65C-419F1987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308-C6DF-45DF-8EA3-2B051903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3196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038A-91F2-4B64-8EB2-942E4FFA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55BA-9874-47C2-95F5-2E4B3CF6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517896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9B4D-7D29-4100-8039-03B7EE42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3196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0E8B-FAC5-4662-84CA-EFD15D87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8580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1512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48580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1512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526E-B9FE-4AB6-9C6D-560117C2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CEF-3EEA-45DF-AD45-177EE93C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8D4-7735-4E30-9471-8F7DECF9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F8FB-DF6F-496D-A776-67892494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600084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8E7-C16B-407F-B74B-06D5113C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12B-77A8-4C85-9E41-39BF5F56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3196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1758-7128-470A-820F-65A24540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03C-F050-43BF-BA8F-132A94C1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371600"/>
            <a:ext cx="5969160" cy="1461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8458200"/>
            <a:ext cx="594360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8534520"/>
            <a:ext cx="148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43240" y="8534520"/>
            <a:ext cx="21715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914720" y="8610120"/>
            <a:ext cx="148572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DFC2-3FD6-4A80-B639-06F000F53D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A783-D7AB-47C8-806F-2DC5BDB27E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4440" y="3192480"/>
            <a:ext cx="5829120" cy="1461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-Shell with Func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4571640"/>
            <a:ext cx="5505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lindo da Sil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rlindo.daSilva@nasa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vember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32448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hell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cho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verbo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verbos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ch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variables and the rela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v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x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mmand line options can be  used  to  help  trace  the actions  of  the 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nce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mmand does not recognize lines of the 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will need to explicit set th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ch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verbos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hell variables to obtain the desired echoing of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mmands as they are execu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5105520"/>
            <a:ext cx="5029200" cy="3682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#!/bin/csh -f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erved variab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following variables are used internally and should be considered as reserv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ARG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ARGV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ARGC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FILE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NAME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RC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yle Gu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0084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cause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mmand works on the same name space as the calling script, care should be taken to avoid clobbering shell variab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particular, the implementation of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d argument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reates variables with the same name as the arguments, for examp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create variabl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$nam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ich will be set to “World” after this function invo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5257800"/>
            <a:ext cx="5029200" cy="19288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#!/bin/c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Use Functions.c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Sub hello ( nam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echo "Hello, $name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\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Call hello 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yle Guide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avoid this side effect, add underscore to the end of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inpu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riabl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$name_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still be created but if one reserves this name convention for argument variables no conflict will ari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124080"/>
            <a:ext cx="5029200" cy="19288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#!/bin/c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Use Functions.c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Sub hello ( name_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echo "Hello, $name_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\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Call hello 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yle Guide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rguments are passed by value, in the sense that a function argument variable is never modifi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, one can pass a variable name and have the script set this variable with the desired resul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 a convention we prefix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outp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rgument expected to contain a variable name with an undersco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4724280"/>
            <a:ext cx="5029200" cy="22219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#!/bin/c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Use Functions.c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Sub add ( first_, second_, _resul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@ result_ = $first_ + $second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set $_result = $result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\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Call add(3,5,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echo “Result is $resul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ong with the mai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sourceabl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i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Functions.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 will find a some example/test 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utFunctions.csm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module file with function defini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utFunctions.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dri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xt slides reproduce some of these exam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mple function passing unnamed arguments; there is no automatic exiting since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Verif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s not set by defaul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343400"/>
            <a:ext cx="5924520" cy="2057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 Hello 'World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if ( $status ) 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echo "Function &lt;Hello&gt; returned $status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ot unamed argument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ion &lt;Hello&gt; returned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functions" descr=""/>
          <p:cNvPicPr/>
          <p:nvPr/>
        </p:nvPicPr>
        <p:blipFill>
          <a:blip r:embed="rId2"/>
          <a:srcRect l="0" t="0" r="43222" b="76269"/>
          <a:stretch/>
        </p:blipFill>
        <p:spPr>
          <a:xfrm>
            <a:off x="1219320" y="6934320"/>
            <a:ext cx="4267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ular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; arguments must be simple words, no str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3429000"/>
            <a:ext cx="5924520" cy="2971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first = "arlindo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times =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 Say ( $first, maryland, 301-592-0303, dasilva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echo "Variable times now has value $times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guments in reversed order: dasilva 301-592-0303 maryland arli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times now has value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functions" descr=""/>
          <p:cNvPicPr/>
          <p:nvPr/>
        </p:nvPicPr>
        <p:blipFill>
          <a:blip r:embed="rId2"/>
          <a:srcRect l="0" t="23736" r="1254" b="52532"/>
          <a:stretch/>
        </p:blipFill>
        <p:spPr>
          <a:xfrm>
            <a:off x="228600" y="6858000"/>
            <a:ext cx="63244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ked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Call_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; arguments can be strings, global variable </a:t>
            </a:r>
            <a:r>
              <a:rPr b="0" i="1" lang="en-US" sz="3000" spc="-1" strike="noStrike">
                <a:solidFill>
                  <a:srgbClr val="0066ff"/>
                </a:solidFill>
                <a:latin typeface="Verdana"/>
              </a:rPr>
              <a:t>someth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re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429000"/>
            <a:ext cx="5924520" cy="2971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something = "set in &lt;main&gt;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_ Entry 'Arlindo Moraes da Silva'  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'212 Whitmoor Terrace' '29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echo "Variable 'something' $something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ll name: Arlindo Moraes da Sil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: 212 Whitmoor Ter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ge: 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'something' set by function &lt;Examp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functions" descr=""/>
          <p:cNvPicPr/>
          <p:nvPr/>
        </p:nvPicPr>
        <p:blipFill>
          <a:blip r:embed="rId2"/>
          <a:srcRect l="0" t="48323" r="1254" b="23810"/>
          <a:stretch/>
        </p:blipFill>
        <p:spPr>
          <a:xfrm>
            <a:off x="380880" y="7086600"/>
            <a:ext cx="6324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Ru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unction as script; global variable </a:t>
            </a:r>
            <a:r>
              <a:rPr b="0" i="1" lang="en-US" sz="3000" spc="-1" strike="noStrike">
                <a:solidFill>
                  <a:srgbClr val="0066ff"/>
                </a:solidFill>
                <a:latin typeface="Verdana"/>
              </a:rPr>
              <a:t>someth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not reset in this c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429000"/>
            <a:ext cx="5924520" cy="2971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something = "set in &lt;main&gt;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Run Entry 'Arlindo Moraes da Silva'  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'212 Whitmoor Terrace' '29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echo "Variable 'something' $something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ll name: Arlindo Moraes da Sil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: 212 Whitmoor Ter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ge: 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'something' set by function &lt;mai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functions" descr=""/>
          <p:cNvPicPr/>
          <p:nvPr/>
        </p:nvPicPr>
        <p:blipFill>
          <a:blip r:embed="rId2"/>
          <a:srcRect l="0" t="48323" r="1254" b="23810"/>
          <a:stretch/>
        </p:blipFill>
        <p:spPr>
          <a:xfrm>
            <a:off x="380880" y="7086600"/>
            <a:ext cx="6324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sic Functiona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ementatio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vailable Keywor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yle Gui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ssing arguments by refer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5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ssing arguments by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re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3429000"/>
            <a:ext cx="5924520" cy="16765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 Add ( 3, 5, result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echo "Result is $result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is 8</a:t>
            </a: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functions" descr=""/>
          <p:cNvPicPr/>
          <p:nvPr/>
        </p:nvPicPr>
        <p:blipFill>
          <a:blip r:embed="rId2"/>
          <a:srcRect l="0" t="76194" r="1254" b="-2419"/>
          <a:stretch/>
        </p:blipFill>
        <p:spPr>
          <a:xfrm>
            <a:off x="380880" y="5867280"/>
            <a:ext cx="6324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6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mulating error condition with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Verify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3429000"/>
            <a:ext cx="5924520" cy="19810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Verif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 Alo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: function &lt;Aloha&gt; not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: aborting &lt;Aloha&gt; with rc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imple mechanism has been presented for introducing user defined functions in the C-She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though encapsulation is now possible, there are still serious limitations in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at makes it not recommended for medium to high complexity scrip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l, python or even bash/ksh are much better cho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, the encapsulation afforded here can be the first step towards conversion of a large script to another langu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unctions.csh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085400" y="457164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rce code on 11/28/2006 follow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Short-hand to make fortran/perl programmers happ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Syntax:  Use module_na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Example: Use utFun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Module files are required to have extension ".csm"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but the extension is not required in the module na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alias U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set FILE___ = "\!*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"$FILE___:e" != "csm" ) set FILE___ = $FILE___.csm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ARG___ = `which $FILE___`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RC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cannot find module $FILE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ource $ARG___[1]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Verify &amp;&amp; $RC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aborting &lt;Use&gt; with rc = $RC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it $RC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tatus = $RC___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Sub declaration: un-quoted here documents save to tmp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alias Sub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set ARGV___ = (`echo "\!*"|sed -e "s/(//g" -e "s/)//g" -e "s/,/ /g"`)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AME___=$ARGV___[1]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hift ARGV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# Auto-generated by Functions.csh" &gt; $TMPDIR/.cshFunctions.$$.$NAME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mod +x $TMPDIR/.cshFunctions.$$.$NAME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shift" &gt;&gt; $TMPDIR/.cshFunctions.$$.$NAME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ARGC___ = 1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ARG___ ( $ARGV___ )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set $ARG___ =" \"{\$}argv\[$ARGC___\]\" &gt;&gt; $TMPDIR/.cshFunctions.$$.$NAME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@ ARGC___++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 &lt;&lt;\end&gt;&gt;$TMPDIR/.cshFunctions.$$.$NAME___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# Function call of the form: Call function ( arg1, arg2, ... 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alias Ca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set ARGV___ = (`echo "\!*"|sed -e "s/(//g" -e "s/)//g" -e "s/,/ /g"`)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AME___=$ARGV___[1]; set FILE___ = "$TMPDIR/.cshFunctions.$$.$NAME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Trace ) echo "---------------&gt; Entering &lt;$NAME___&gt;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-e $FILE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ource $FILE___ $ARGV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function &lt;$NAME___&gt; not defined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1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Verify &amp;&amp; $RC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aborting &lt;$NAME___&gt; with rc = $RC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bin/rm -rf $TMPDIR/.cshFunctions.$$.*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it $RC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tatus = $RC___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Naked function call: Call_ function  arg1 arg2  ... arg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alias Call_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set ARGV___ = ( \!* ); set NAME___ = "$ARGV___[1]"; set FILE___ = "$TMPDIR/.cshFunctions.$$.$NAME___"; if ( -e $FILE___ ) source $FILE___ \!*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Trace ) echo "---------------&gt; Entering &lt;$NAME___&gt;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! -e $FILE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function &lt;$NAME___&gt; not defined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1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Verify &amp;&amp; $RC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aborting &lt;$NAME___&gt; with rc = $RC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bin/rm -rf $TMPDIR/.cshFunctions.$$.*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it $RC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tatus = $RC___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un: Like Call_ but run function as a separate shell scrip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This is useful to preserve your name spa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alias Ru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'set ARGV___ = ( \!* ); set NAME___ = "$ARGV___[1]"; set FILE___ = "$TMPDIR/.cshFunctions.$$.$NAME___"; if ( -e $FILE___ ) $FILE___ \!*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 $?Trace ) echo "---------------&gt; Entering &lt;$NAME___&gt;"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 ! -e $FILE___ ) then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cho "error: function &lt;$NAME___&gt; not defined"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 RC___ = 1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 $?Verify &amp;&amp; $RC___ ) then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cho "error: aborting &lt;$NAME___&gt; with rc = $RC___"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bin/rm -rf $TMPDIR/.cshFunctions.$$.*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it $RC___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 status = $RC___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Verify status, sort of like GEOS-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--------------------------------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alias Verify_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'if ( $status ) exit $status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Delete temp files: Clean [all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----------------------------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alias Clea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'if ( "\!*" == "all" ) then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bin/rm -rf $TMPDIR/.cshFunctions.*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bin/rm -rf $TMPDIR/.cshFunctions.$$.*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if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rn Unix shells such a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a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k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ermit definition of user defined functions at the top of the file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.g.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sh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lack this feature which makes any kind of encapsulation very difficul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, one can simulate this functionality within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y a combination of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lia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ourc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276720"/>
            <a:ext cx="5029200" cy="2037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#!/bin/b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hello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echo "Hello, $1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hello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Functiona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sourceabl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ile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Functions.cs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defines the relevant aliases and must be included at the top of the user 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 i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bash/ks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unctions are defined at the top of the file with the keywords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/en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943600"/>
            <a:ext cx="5029200" cy="2454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#!/bin/c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Use Functions.c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Sub 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echo "Hello, $1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\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Call hello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ation Over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each function, all code between 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\en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re written to a temporary script file with the function name as part of the file na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nctions are invoked with the keyword 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which in turn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ourc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is temporary file passing the specified paramet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addition to the usual </a:t>
            </a:r>
            <a:r>
              <a:rPr b="0" lang="en-US" sz="2200" spc="-1" strike="noStrike">
                <a:solidFill>
                  <a:srgbClr val="0066ff"/>
                </a:solidFill>
                <a:latin typeface="Verdana"/>
              </a:rPr>
              <a:t>$1, $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… arguments one can also define named argu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nctions can also be </a:t>
            </a:r>
            <a:r>
              <a:rPr b="1" lang="en-US" sz="2200" spc="-1" strike="noStrike">
                <a:solidFill>
                  <a:srgbClr val="0066ff"/>
                </a:solidFill>
                <a:latin typeface="Courier New"/>
              </a:rPr>
              <a:t>Ru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n which case the corresponding script i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ecu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stead of being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ourc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ful to avoid clobbering local variab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le Keyword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Us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s the first occurrence of file “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odule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sm” on your pa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ule files usually contain function defini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ule files must have extensio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.c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g1, arg2,…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a new function nam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named argumen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rg1, arg2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., are optio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ne call always use </a:t>
            </a:r>
            <a:r>
              <a:rPr b="0" lang="en-US" sz="2100" spc="-1" strike="noStrike">
                <a:solidFill>
                  <a:srgbClr val="0066ff"/>
                </a:solidFill>
                <a:latin typeface="Verdana"/>
              </a:rPr>
              <a:t>$1, $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n present, code fragment is automatically generated with the assignmen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urier New"/>
              </a:rPr>
              <a:t>Set arg1 = $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urier New"/>
              </a:rPr>
              <a:t>Set arg2 = $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tice that when using </a:t>
            </a:r>
            <a:r>
              <a:rPr b="1" lang="en-US" sz="21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there is only one name spa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eywords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 ( arg1, arg2, …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okes a function by sourcing the corresponding temporary script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renthesis and commas are optional and stripped out when pres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urrent implementation is dumb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arguments must be simple words with no spac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l arguments are passed by value, but one can simulate references by passing the name of a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riab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Call_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 arg1 arg2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</a:t>
            </a:r>
            <a:r>
              <a:rPr b="1" lang="en-US" sz="22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ut without parenthesis and comm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guments can be str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eywords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Ru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 arg1 arg2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</a:t>
            </a:r>
            <a:r>
              <a:rPr b="1" lang="en-US" sz="2200" spc="-1" strike="noStrike">
                <a:solidFill>
                  <a:srgbClr val="0066ff"/>
                </a:solidFill>
                <a:latin typeface="Courier New"/>
              </a:rPr>
              <a:t>Call_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ut in this case the temporary script file is run as an external scrip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re is no good way to return variables in this c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nce the script runs on its own name space, there is not danger of clobbering shell variab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Cl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eans up temporary script fi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n be used to erase the internal “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function table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a good idea to execute this alias at the end of your main scrip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alias is automatically run when the shell variabl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erif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set and the function returns a non-zero statu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ror trapp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Veri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 this variable for automatic error hand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 function i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all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u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and returns a non-zero error code, your calling script will exit with the same error code when this variable is s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ias </a:t>
            </a:r>
            <a:r>
              <a:rPr b="1" lang="en-US" sz="2300" spc="-1" strike="noStrike">
                <a:solidFill>
                  <a:srgbClr val="0066ff"/>
                </a:solidFill>
                <a:latin typeface="Courier New"/>
              </a:rPr>
              <a:t>Clear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will be executed prior to an abnormal exi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go back to the default behavior by unsetting 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Verif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51:16Z</dcterms:created>
  <dc:creator>mc</dc:creator>
  <dc:description/>
  <dc:language>en-US</dc:language>
  <cp:lastModifiedBy>dasilva</cp:lastModifiedBy>
  <dcterms:modified xsi:type="dcterms:W3CDTF">2006-11-28T19:41:44Z</dcterms:modified>
  <cp:revision>86</cp:revision>
  <dc:subject/>
  <dc:title>Working group 2: Modeling and data assimilation Interim report</dc:title>
</cp:coreProperties>
</file>